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840-B861-4194-85BB-9ACCE4CA9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98C-7846-47C1-B344-BF2C82AB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4BC-D74C-46CB-99FE-58C793FE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320-44EC-4C52-A934-677ED5A97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70C-5266-49AB-8FD5-1B72F31C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7C16-9D4E-4604-B4A4-F998AAB6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2EDB-22DB-462C-BCE3-E0BDCE9A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EF19-A91E-4AF7-9F0E-A2622605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846-A8E5-4983-AD07-AA871BD1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49B-E91E-44FA-9ADD-CC9453D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8E4-4AEC-47E2-9FF8-E094FB86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88D-93CC-4E82-B138-5A7E403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7AE3-AE53-4509-820F-B398FEE7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Methodolog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6400800" cy="228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atic 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e pieces together- Methodol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SAM (System Assurance Methodology) in Go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neva"/>
              </a:rPr>
              <a:t>Objectives of S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typical significant threats and characterize in a systematic wa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 adversaries and threa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 counter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 gaps and needed remedi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a means for strategic planning for I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on statement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(simple or detailed) system design (or architecture) for the system under consid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notion of threats to the syste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ttack trees to determine possible attacks and measures of vulnerabiliti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of adversary behavior is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ersary o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lihood of the adversary having requisite capabilities, system access, and tolerating risk of detection (6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likely attacks or attack out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measures  are developed.  The effectiveness of countermeasures to an attack is measur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system on the basis of the likely attacks and countermeas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View of S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6760" y="1905120"/>
            <a:ext cx="193032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1766880" cy="416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74880" y="22510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590920"/>
            <a:ext cx="12952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5480" y="3352680"/>
            <a:ext cx="22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5240" y="4648320"/>
            <a:ext cx="241956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31240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00600" y="40384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886200" y="32004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9880" y="5562720"/>
            <a:ext cx="2210040" cy="990360"/>
          </a:xfrm>
          <a:prstGeom prst="ellipse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990720"/>
            <a:ext cx="25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Review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ossible 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36232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581280"/>
            <a:ext cx="106668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4011480"/>
            <a:ext cx="203544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De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risk mi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4160" y="1039680"/>
            <a:ext cx="1915200" cy="13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) Impro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impleme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er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43434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800600"/>
            <a:ext cx="114300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410080" y="5029200"/>
            <a:ext cx="160020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080" y="5840280"/>
            <a:ext cx="14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 tr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2590920"/>
            <a:ext cx="30481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Develop a management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4038480"/>
            <a:ext cx="289548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Build attack trees for detailed risk assess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2209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34290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96080" y="25146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647960" y="182880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60000" y="123336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) Re-ite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8040" y="90360"/>
            <a:ext cx="35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Assurance Method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609588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6520" y="588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2160" y="653904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89280" y="632448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3040200"/>
            <a:ext cx="1371600" cy="125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V="1">
            <a:off x="1066680" y="3276720"/>
            <a:ext cx="83844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784080" y="0"/>
            <a:ext cx="1085184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ttack Trees and Attack Characterization (Risk analys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ee used to perform analysis to determine possible attack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rvice Assurance of System Threatened – Denial-of-Service Attack 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ndividual Component or Su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n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uring network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assive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avesdropping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ctive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Illegal logon or system entry as user or root to cause denial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ail bom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3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YN flood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4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ing of de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5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ial-port flo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1.2.6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hut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1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uring development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uring network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Passive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1.1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Eavesdropping (preparing for DoS attac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1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ctive att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1.2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Attacks on routing protoco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2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During development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1.3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2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Multiple Components or Sub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1.2.1.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986200" y="58118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05320" y="2590920"/>
            <a:ext cx="1676160" cy="2040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81480" y="3886200"/>
            <a:ext cx="1524240" cy="304920"/>
          </a:xfrm>
          <a:prstGeom prst="leftRightArrow">
            <a:avLst>
              <a:gd name="adj1" fmla="val 50000"/>
              <a:gd name="adj2" fmla="val 9951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0"/>
            <a:ext cx="807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Analysis - Online Purc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5562720"/>
            <a:ext cx="1524240" cy="106668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a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4648320"/>
            <a:ext cx="380880" cy="1066680"/>
          </a:xfrm>
          <a:prstGeom prst="upDownArrow">
            <a:avLst>
              <a:gd name="adj1" fmla="val 50000"/>
              <a:gd name="adj2" fmla="val 5575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3880" y="735120"/>
            <a:ext cx="193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60" y="81108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731880" cy="57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3200400"/>
            <a:ext cx="2743200" cy="152280"/>
          </a:xfrm>
          <a:prstGeom prst="leftRightArrow">
            <a:avLst>
              <a:gd name="adj1" fmla="val 50000"/>
              <a:gd name="adj2" fmla="val 35861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61560" y="3946680"/>
            <a:ext cx="1706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spAutoFit/>
          </a:bodyPr>
          <a:p>
            <a:pPr marL="171360" indent="-171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- 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9000" y="5546880"/>
            <a:ext cx="426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the attack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re the risk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will you mitigate ri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will be the impact of outsour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685800"/>
            <a:ext cx="1523880" cy="1066680"/>
          </a:xfrm>
          <a:prstGeom prst="can">
            <a:avLst>
              <a:gd name="adj" fmla="val 25000"/>
            </a:avLst>
          </a:prstGeom>
          <a:solidFill>
            <a:srgbClr val="0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ML 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1752480"/>
            <a:ext cx="380880" cy="685800"/>
          </a:xfrm>
          <a:prstGeom prst="upDownArrow">
            <a:avLst>
              <a:gd name="adj1" fmla="val 50000"/>
              <a:gd name="adj2" fmla="val 3584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3581280"/>
            <a:ext cx="1371600" cy="914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cha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3048120"/>
            <a:ext cx="1494000" cy="1923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y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i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622620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762120"/>
            <a:ext cx="76320" cy="556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304920" y="54864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Q Sit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066680"/>
            <a:ext cx="1276200" cy="990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905120"/>
            <a:ext cx="122724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55720" y="2122560"/>
            <a:ext cx="1230480" cy="207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362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733920" y="20574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4720" y="3276720"/>
            <a:ext cx="1150920" cy="10036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1360" y="2438280"/>
            <a:ext cx="97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3000" y="1066680"/>
            <a:ext cx="8686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800" y="2209680"/>
            <a:ext cx="1045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5440" y="1295280"/>
            <a:ext cx="12222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Q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20320" y="2289240"/>
            <a:ext cx="847440" cy="698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289548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2520" y="990720"/>
            <a:ext cx="1172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990720"/>
            <a:ext cx="1676520" cy="4190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840" y="64501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2743200"/>
            <a:ext cx="144756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3886200"/>
            <a:ext cx="25146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985680"/>
            <a:ext cx="76320" cy="556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8080" y="3581280"/>
            <a:ext cx="138312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2514600"/>
            <a:ext cx="914400" cy="11430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5720" y="365760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3400" y="990720"/>
            <a:ext cx="10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4952880"/>
            <a:ext cx="1295280" cy="1143000"/>
          </a:xfrm>
          <a:prstGeom prst="can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7848360" y="4343400"/>
            <a:ext cx="60948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2840" y="1981080"/>
            <a:ext cx="1157760" cy="131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09880" y="2895120"/>
            <a:ext cx="236232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03:46:05Z</dcterms:created>
  <dc:creator>umar</dc:creator>
  <dc:description/>
  <dc:language>en-US</dc:language>
  <cp:lastModifiedBy>amjad umar</cp:lastModifiedBy>
  <dcterms:modified xsi:type="dcterms:W3CDTF">2003-09-27T13:22:42Z</dcterms:modified>
  <cp:revision>32</cp:revision>
  <dc:subject/>
  <dc:title>Management Considerations</dc:title>
</cp:coreProperties>
</file>