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8178-C8F5-4430-880A-51FEE9B01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1EC-CC6E-4B44-8D6F-EAEAFCD7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066C-A3C4-4C05-8DEE-38FFE355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561-1B1C-4AC8-B644-6ED232ED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DC4-9383-4DA5-8A32-A7022648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562-0272-43AC-9BD1-67C622EA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D8B6-E145-43E9-9B63-15B1D472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35B-4F3A-4A2A-9E22-F001C54C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55B-2362-47D1-8E0A-9117609A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3B0-B4C4-45F1-9E5D-980CD6C5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32A-234C-40CE-A21F-0D56A6C4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0874-4883-407B-B676-8E1D840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20B-CB4B-4E34-8904-BBEAC2A0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5E1D-0203-4CAA-87BD-38B2C98AD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Assurance and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057040"/>
            <a:ext cx="6477120" cy="380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and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ssets to be prot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910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Levels of Security Are Needed for Complete Sol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Different technologies apply at different leve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938160" y="5540400"/>
            <a:ext cx="181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95280" y="1295280"/>
            <a:ext cx="2396880" cy="4343400"/>
            <a:chOff x="1295280" y="1295280"/>
            <a:chExt cx="2396880" cy="4343400"/>
          </a:xfrm>
        </p:grpSpPr>
        <p:sp>
          <p:nvSpPr>
            <p:cNvPr id="78" name=""/>
            <p:cNvSpPr/>
            <p:nvPr/>
          </p:nvSpPr>
          <p:spPr>
            <a:xfrm>
              <a:off x="1625400" y="1295280"/>
              <a:ext cx="2066760" cy="4343400"/>
            </a:xfrm>
            <a:prstGeom prst="rect">
              <a:avLst/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66720" y="2070000"/>
              <a:ext cx="507960" cy="355680"/>
            </a:xfrm>
            <a:prstGeom prst="rect">
              <a:avLst/>
            </a:prstGeom>
            <a:solidFill>
              <a:srgbClr val="dadada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80920" y="153648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1728720"/>
              <a:ext cx="160632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29240" y="1828800"/>
              <a:ext cx="1351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40160" y="2514600"/>
              <a:ext cx="576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80920" y="297180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29600" y="3276360"/>
              <a:ext cx="1287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ddlew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0920" y="4419360"/>
              <a:ext cx="1596960" cy="965160"/>
            </a:xfrm>
            <a:prstGeom prst="rect">
              <a:avLst/>
            </a:pr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85480" y="4724280"/>
              <a:ext cx="981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16120" y="3961440"/>
              <a:ext cx="576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4191120" y="4343400"/>
            <a:ext cx="4114800" cy="1828800"/>
          </a:xfrm>
          <a:prstGeom prst="wedgeRoundRectCallout">
            <a:avLst>
              <a:gd name="adj1" fmla="val -60648"/>
              <a:gd name="adj2" fmla="val -1129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4572000"/>
            <a:ext cx="358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 and T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PSEC (VP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yer2 tunneling protocol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network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2743200"/>
            <a:ext cx="4648320" cy="1447920"/>
          </a:xfrm>
          <a:prstGeom prst="wedgeRoundRectCallout">
            <a:avLst>
              <a:gd name="adj1" fmla="val -59425"/>
              <a:gd name="adj2" fmla="val 11731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47200" y="2971800"/>
            <a:ext cx="45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curity (HTTPS, PICS, HTTP Header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xy server secu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BA Secur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iddleware security servic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914400"/>
            <a:ext cx="3962520" cy="1676520"/>
          </a:xfrm>
          <a:prstGeom prst="wedgeRoundRectCallout">
            <a:avLst>
              <a:gd name="adj1" fmla="val -59175"/>
              <a:gd name="adj2" fmla="val 2149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37120" y="990720"/>
            <a:ext cx="371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onent-app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ransaction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va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/M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2800" y="1440000"/>
            <a:ext cx="7718400" cy="39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rn enterprises are becoming increasingly digital and reliant o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al exposures due to the increased re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ed threats due to viruses, “always on networks”, mobility and wireless operations, possibility of attacks from terrorists, et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rn enterprises need to protect corporate  IT and physical assets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d to external fac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al requiremen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 indent="-179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ete in the market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90360"/>
            <a:ext cx="69343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ede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architectural view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ws how the various corporate assets can be protect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s a combination of technical and organizational approach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framework is needed that ties the following pieces together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sis of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approaches, policies,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technolog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assets to be prote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bas and appl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works (wired plus wireless) that provide the 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onnectivity services, commonly known as middlewa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for Discussi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286000"/>
            <a:ext cx="1447920" cy="25146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3429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00" y="2666880"/>
            <a:ext cx="322200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alysis and Approa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requiremen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cy and confidentiality la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ganizationa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ment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7840" y="2590920"/>
            <a:ext cx="3629160" cy="146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 Assets – Computer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 and automat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s,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ing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dleware (e.g., web serv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3352680"/>
            <a:ext cx="228600" cy="3049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23800" y="609480"/>
            <a:ext cx="4496040" cy="1465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curity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yptographic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zation, authentication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Accountability and availability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packages (PKI, PGP, Kerberos, SS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31520" y="5108400"/>
            <a:ext cx="3150720" cy="1465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T Assets – Th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and Internet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ew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network 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4800600"/>
            <a:ext cx="228600" cy="2286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ternal Fac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der/attacker/assault Thre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and confidentiality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/customer att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ivability and Toler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dgettary and policy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a management approach and policies to and technologies to deal with these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A4 to Analyze Vulnerabilitie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2" marL="563040"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e privacy of information (i.e., no one other than the authorized people can see the information)   when transmitting it over a  networ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0" algn="just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grity of information (i.e., no unauthorized modification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 for certain who is communicating with you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ation (Access control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at access rights that person has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ability and Assur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e that you can tell who did what when and convince yourself that the system keeps its security promise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on-repudiation (N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- the ability to provide proof of the origin or delivery of dat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040" indent="-120240" algn="just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can use  the system when they need 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3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Security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600200"/>
          <a:ext cx="9906120" cy="358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99061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Technologies at a Gl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 diges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ertific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 and pass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dit trai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ackages to provide these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ot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Assets to be Prot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and autom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s,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plat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le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browsers, web 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s (hardware, routing soft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4:40:24Z</dcterms:created>
  <dc:creator>UMAR</dc:creator>
  <dc:description/>
  <dc:language>en-US</dc:language>
  <cp:lastModifiedBy>amjad umar</cp:lastModifiedBy>
  <dcterms:modified xsi:type="dcterms:W3CDTF">2003-10-08T04:06:44Z</dcterms:modified>
  <cp:revision>21</cp:revision>
  <dc:subject/>
  <dc:title>Information Assurance and Security</dc:title>
</cp:coreProperties>
</file>