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embeddings/oleObject1.docx" ContentType="application/vnd.openxmlformats-officedocument.wordprocessingml.documen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3860-8479-462A-9CC7-DC70D9BCB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" Target="../slides/slide10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56" name=""/>
          <p:cNvGraphicFramePr/>
          <p:nvPr/>
        </p:nvGraphicFramePr>
        <p:xfrm>
          <a:off x="914400" y="4519440"/>
          <a:ext cx="5029200" cy="3762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19440"/>
                    <a:ext cx="5029200" cy="37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239-3A65-43E3-ACE3-96C53D93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CEC8-13DF-4FFA-9705-FF3BBE68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91B-051F-48C8-B3AC-5391AC76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3E0F-F940-4ADF-BA3B-B3926E13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A24-B31C-4B8C-B395-8DE24791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A169-E87D-4A75-9111-E2A4BB1F3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0F53-3BE6-4653-B80D-0A0BD5B8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ABA7-6A1B-4D31-AEEA-D0D58A60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A3E4-70D0-44C0-A8C4-AC36F85A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F00-2366-45AC-8930-C02D33DA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7B85-6460-4772-A977-B869BD2A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6620-027E-4E42-B6C7-05A19CCC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6AD0-D3E8-4403-8CF2-7AE553FB0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040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horization, Authentication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ountability, and Availabil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543800" cy="4495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, Passwords, Digital Certificates and Sign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metric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and Intrusion De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ability and Non-Repu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 and Re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838080"/>
            <a:ext cx="3047760" cy="5639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803680"/>
            <a:ext cx="45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6720" y="1143000"/>
            <a:ext cx="2422800" cy="977760"/>
          </a:xfrm>
          <a:prstGeom prst="rect">
            <a:avLst/>
          </a:prstGeom>
          <a:solidFill>
            <a:srgbClr val="fda4b5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E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7600" y="2209680"/>
            <a:ext cx="181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3040" y="5029200"/>
            <a:ext cx="2575080" cy="91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P, Wireless, Wired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1143000"/>
            <a:ext cx="1752480" cy="5277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3040" y="2438280"/>
            <a:ext cx="2727360" cy="990720"/>
          </a:xfrm>
          <a:prstGeom prst="rect">
            <a:avLst/>
          </a:prstGeom>
          <a:solidFill>
            <a:srgbClr val="ff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ddleware Se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e.g., Web, emai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960" y="2652840"/>
            <a:ext cx="470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3733920"/>
            <a:ext cx="2727360" cy="911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software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Operating system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 manag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9120" y="419040"/>
            <a:ext cx="28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ject (Managed)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71800" y="1905120"/>
            <a:ext cx="4419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05320" y="327672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57913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21240" y="471600"/>
            <a:ext cx="157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S Mon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1523880"/>
            <a:ext cx="914400" cy="6098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67480" y="2895480"/>
            <a:ext cx="914400" cy="6098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4267080"/>
            <a:ext cx="91440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0120" y="5486400"/>
            <a:ext cx="914400" cy="6094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1752480"/>
            <a:ext cx="77796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66880" y="3124080"/>
            <a:ext cx="77796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4419720"/>
            <a:ext cx="77796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5638680"/>
            <a:ext cx="7776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63640" y="-34920"/>
            <a:ext cx="254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usion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 Mining for Intrusion De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llenge: How to use D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ques to det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(e.g., linking a user site with intrusions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ing  (e.g., tying events together such as  break-ins at certain times of day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ifications (e.g., recognize patterns such as the attributes and profiles of intruders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ecasting (e.g., predicting future intrusions based on past patterns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great deal of log analysis is need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ountability and Non-Repudi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 is synonymous to answerability and indicates responsibilit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=  system should be able to tell who did what, when, and how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rack of who or what accessed and/or made changes to the syste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s and audit trails are used to support accountabi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609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n-repudiation (NR)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bility to provide proof of the origin or delivery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r due to the increase in ecommerce with use of digital signatur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and crypto technical views do not coinc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raditional legal meaning of "Non-Repudiation”: an alleged signatory to a document is always able to repudiate, i.e., deny, a signature that has been attributed to him or h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asons for a repudi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gnature is a forg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gnature was obtained via unconscionable conduct by a party to a transaction, fraud instigated by a third party, or undue influence exerted by a third pa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yptographic view of "non-repudiation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vice that provides proof of the integrity and origin of data, both in an unforgeable relationship, which can be verified by any third party at any tim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ceiver cannot say that he/she never received the data or the sender cannot say that  he/she never sent any data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related to NR in the digital environ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aper-based environment, the signatory has complete control over the signing mechanis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digital environments because the signatory has to rely on the cryptographic technologies, i.e., the public and private keys that are used to create the digital signat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, the signature and other documents have to be transmitted over networks and then stored on computers -- all subject to a variety of attack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in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53352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EC Environment (Article 13 Model Law) shifts the  onus of proof to the signatory to prove that the digital signature is a forger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ventional environment, the onus of proof is on the relying party to prove that the signature is not a forg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technologies to support NR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 author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ve logs and audit tr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security measures at the computer systems to protect the private key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communication channels between the parties to assure safe transfer of certificat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vailability and Denial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08576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: percentage of time a system can be used by a user (human or program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 causes can make a system unavail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ckers and intruders can make a system unavailable by launch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nial of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tac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ication is a common approach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usion Toler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28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2" marL="960120" indent="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usion tolerance = security + avail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gmentation-Redundancy-Scattering (FRS) scheme is a good approach to increase availability plus security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: Cutting all the sensitive information into several fragments such that no significant information is contained in any isolated frag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: Multiple copies might be introduced by copying the fragments to tolerate destruction or al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ttering: The fragments along with their copies may be scattered amongst the different sites of the distributed system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S (Fragmentation, Replication, Scatt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00200" y="5410080"/>
            <a:ext cx="2057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C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19720" y="5334120"/>
            <a:ext cx="2057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C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86600" y="5334120"/>
            <a:ext cx="2057400" cy="459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r 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1295280"/>
            <a:ext cx="2971800" cy="12193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2743200"/>
            <a:ext cx="1295280" cy="838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00600" y="2743200"/>
            <a:ext cx="1295280" cy="838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10280" y="2666880"/>
            <a:ext cx="1295640" cy="838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4572000"/>
            <a:ext cx="1295280" cy="838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495680"/>
            <a:ext cx="1295280" cy="838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0" y="4495680"/>
            <a:ext cx="1295280" cy="838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4495680"/>
            <a:ext cx="1295640" cy="8384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572000"/>
            <a:ext cx="1295280" cy="838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10080" y="4572000"/>
            <a:ext cx="1295640" cy="8380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F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0960" y="164160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) Original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0960" y="293688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) Frag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8600" y="507060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) F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040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ding Commen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, Passwords, Digital Certificates and Signatu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ometric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rbe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and Intrusion Dete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ability and Non-Repud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 and Re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uthentication can be classified in term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y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no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an  ID, also known as a personal identification number (PIN),  and a passwo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y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Token cards such as secure ID, smart cards, and Java ring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mething y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 fingerprints, speech recognition, or other biometric identification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thing yo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o: digital certificates and digital signatures indicate that you belong  to a digital enterprise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factor authentication combines more than one technology, e.g., PIN plus secure ID card, for stronger authent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uthentication Technologi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 approach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ID, PW for authent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n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signon could hel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 car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ure ID c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 R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phisticated approaches use cryptography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s is a good techni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ertif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ometric Identific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hysical attributes of a person for positive 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parts to use: voice patterns, retina (eyeball) scan, iris (around pupil), signature dynamics, handwriting, fingerpr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commercial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ability depends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cy (false rejections/acceptanc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and through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to users (social impl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stance to counterfe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requirem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gital Signatures and Certificat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5080" y="914040"/>
            <a:ext cx="741384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signature: uses public and private 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ertificate: A certificate Authority (CA) is a trusted party that keeps public key and other inf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creates and manages certificates (like birth certificat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27432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4680" y="289548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648320"/>
            <a:ext cx="84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16160" y="4572000"/>
            <a:ext cx="1252080" cy="39888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19320" y="3733920"/>
            <a:ext cx="91440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5520" y="3138480"/>
            <a:ext cx="15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’s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295280" y="49525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733920" y="4800600"/>
            <a:ext cx="23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7240" y="3733920"/>
            <a:ext cx="150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’s 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07280" y="4572000"/>
            <a:ext cx="1252080" cy="7038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if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097960" y="5638680"/>
            <a:ext cx="3850560" cy="1313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erent type of certifica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erver, user,,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rtificates follow X5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KI is a collection of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3733920"/>
            <a:ext cx="7632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4572000"/>
            <a:ext cx="60948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9720" y="5715000"/>
            <a:ext cx="485316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 starting, ask receiver for a certific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CA’s public key to verify correctn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 receiver’s public key and se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ngle System Sign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8240" y="3021120"/>
            <a:ext cx="8010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24040" y="2971800"/>
            <a:ext cx="8467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014600" y="1600200"/>
            <a:ext cx="1058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38280" y="3733920"/>
            <a:ext cx="1058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90560" y="5257800"/>
            <a:ext cx="1058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57800" y="1828800"/>
            <a:ext cx="17524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327672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3429000"/>
            <a:ext cx="449568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914400" cy="860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19320" y="3352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0440" y="4773600"/>
            <a:ext cx="4344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one logon ID and PW for mult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proxy can act on behalf of u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 can be at user client or a ser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99480" y="2259000"/>
            <a:ext cx="1093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66360" y="2209680"/>
            <a:ext cx="1093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it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rberos for Authent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 very wide range of security technologi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ic and asymmetric-key cryptograph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c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 c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rt car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s, PW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free as well as commercial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 model: direct, third par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horization and Intrusion De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zation: Verify if authorized to access resourc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Ls (authorization control lists(used common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3429000"/>
          <a:ext cx="10058400" cy="34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29000"/>
                    <a:ext cx="100584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usion Detection Systems (IDS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usion detection systems are based on two major princi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maly detection:  tries to determine whether a deviation from an established normal profile can be flagged as an intrus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ture detection (also known as misuse detection). uses patterns of known intrusion to match and identify an intrus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Ss use sensors at various lev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le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04:59:05Z</dcterms:created>
  <dc:creator>umar</dc:creator>
  <dc:description/>
  <dc:language>en-US</dc:language>
  <cp:lastModifiedBy>amjad umar</cp:lastModifiedBy>
  <dcterms:modified xsi:type="dcterms:W3CDTF">2003-10-13T22:51:01Z</dcterms:modified>
  <cp:revision>97</cp:revision>
  <dc:subject/>
  <dc:title>Crypto - Part 2</dc:title>
</cp:coreProperties>
</file>